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90C-B699-4136-8A08-ACB618CE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4E1D-8FAE-4651-B6EA-05529843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1C9-1CDE-43D2-9443-9AB8975E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1725-AFB8-484A-910F-70754D6D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684-0F17-4F49-B1E3-77B16998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870-D186-415F-A4C8-F489B2C6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BA0-297D-4667-B4AC-A444792F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D75-B503-4DF3-80B5-7EF8013B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902-7756-40CF-B50F-22550734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A6C-E9F4-4BFF-84AD-248F2635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6D9-539D-49E1-BD4F-EA275B59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115-F842-4B37-9AE1-EB9A8909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BC9E-C15F-46BB-8F08-945C2666B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ungle-Upton Sinclair 5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Context of the novel is very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at the turn of the century, no novel since, Uncle Tom’s Cabin caused such an uproar, or left such an impact on American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“muckraker” journalist. Raking up muck or dirt and revealing social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lead to the USDA and F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to answer as we rea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find out about Jurgis in the first para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meant by this: “Jurgis was like a boy, a boy from the countr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ttitude does Jurgis have toward the unemploy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 to Jurgis’ br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hat Jurgis “find his fortune?” Who is he trying to prove himself 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 immigrants view Ame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description of Jurgis on page 535 show us about h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Jungle-535 Questions to answer as we re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the family go to Chicago after arriving in Ame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amily most afraid of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area around the stockyards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last paragraph the narrator chooses to use the pronou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e family friend described as “mythical”? What does the family think will happen now that they have met up with 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boarding house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9:35:52Z</dcterms:created>
  <dc:creator>VMS</dc:creator>
  <dc:description/>
  <dc:language>en-US</dc:language>
  <cp:lastModifiedBy>VMS</cp:lastModifiedBy>
  <dcterms:modified xsi:type="dcterms:W3CDTF">2010-02-08T20:12:49Z</dcterms:modified>
  <cp:revision>2</cp:revision>
  <dc:subject/>
  <dc:title>Slide 1</dc:title>
</cp:coreProperties>
</file>